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E63-8BF2-4156-8B82-6ECE46E8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C1F-88F6-4A9F-8D32-2EA21F9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23D-A75A-4E78-BE77-9FC72927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AF1-6DAB-48A6-84EB-83F5FE0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B2D-4B24-4D23-BD2C-C2E24C53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F5F-213F-47D1-A638-724B2FB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1A6-E44C-46AB-AE77-B4E4E5E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E9D-7969-496D-8CE4-9D79F65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756-7912-4978-B090-743E530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1C9-4955-4721-B2A4-CFBD30F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4C6-5A74-4E4B-8A6E-B9FCDF0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4F6-9C7A-43CC-A9AC-6844E0E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343-01D0-4D04-9A54-3EF87595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7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5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92d050"/>
                </a:solidFill>
                <a:latin typeface="Arial"/>
              </a:rPr>
              <a:t>L.O: to recall question words and review –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Repaso Gramatical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os de interrogac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mark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4.bp.blogspot.com/-HblgNJbhyF4/VV40lhipFkI/AAAAAAAADls/4q2MqHYPPG0/s1600/interrogacion.png"/>
          <p:cNvPicPr/>
          <p:nvPr/>
        </p:nvPicPr>
        <p:blipFill>
          <a:blip r:embed="rId1"/>
          <a:stretch/>
        </p:blipFill>
        <p:spPr>
          <a:xfrm>
            <a:off x="0" y="5257800"/>
            <a:ext cx="20289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4.bp.blogspot.com/-s1-Wo_EefwU/VF4BuQ-HawI/AAAAAAAACtA/GA5UAgp3sC0/s1600/INTERROGACION.png"/>
          <p:cNvPicPr/>
          <p:nvPr/>
        </p:nvPicPr>
        <p:blipFill>
          <a:blip r:embed="rId2"/>
          <a:stretch/>
        </p:blipFill>
        <p:spPr>
          <a:xfrm>
            <a:off x="2743200" y="5462640"/>
            <a:ext cx="159552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4.bp.blogspot.com/-aMHT6enrWB8/UmbaQqVdI0I/AAAAAAAAAYo/eSHoNaMcr9s/s1600/signo+de+interrogacion.gif"/>
          <p:cNvPicPr/>
          <p:nvPr/>
        </p:nvPicPr>
        <p:blipFill>
          <a:blip r:embed="rId3"/>
          <a:srcRect l="1925" t="11554" r="0" b="19800"/>
          <a:stretch/>
        </p:blipFill>
        <p:spPr>
          <a:xfrm>
            <a:off x="5181480" y="5257800"/>
            <a:ext cx="16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ttp://2.bp.blogspot.com/-f0XHahx66vU/VN1Y_4yrVcI/AAAAAAAArZQ/csCJ5uMc9L4/s1600/signos.interrogacion.jpg"/>
          <p:cNvPicPr/>
          <p:nvPr/>
        </p:nvPicPr>
        <p:blipFill>
          <a:blip r:embed="rId4"/>
          <a:stretch/>
        </p:blipFill>
        <p:spPr>
          <a:xfrm>
            <a:off x="7238880" y="5229360"/>
            <a:ext cx="16192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 rot="20887800">
            <a:off x="6567480" y="158400"/>
            <a:ext cx="2459160" cy="258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static9.depositphotos.com/1571321/1194/v/950/depositphotos_11943048-Question-mark-symbol-with-ancient-drawing.-Vector-illustration.jpg"/>
          <p:cNvPicPr/>
          <p:nvPr/>
        </p:nvPicPr>
        <p:blipFill>
          <a:blip r:embed="rId2"/>
          <a:stretch/>
        </p:blipFill>
        <p:spPr>
          <a:xfrm rot="1662600">
            <a:off x="4730400" y="2136240"/>
            <a:ext cx="2117880" cy="188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76680" y="12654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(es)…?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dónd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ara qué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(e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(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(s)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43200" y="129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82880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362320" y="2286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133720" y="2835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14600" y="3352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o 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68640" y="3881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73200" y="4343400"/>
            <a:ext cx="51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 </a:t>
            </a: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(for what reason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646360" y="487188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 </a:t>
            </a: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(for what purpose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73200" y="5405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05120" y="609588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any/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" name="Picture 14" descr="http://images.wikia.com/logocreation/es/images/1/16/Signos_de_interrogaci%C3%B3n.png"/>
          <p:cNvPicPr/>
          <p:nvPr/>
        </p:nvPicPr>
        <p:blipFill>
          <a:blip r:embed="rId3"/>
          <a:stretch/>
        </p:blipFill>
        <p:spPr>
          <a:xfrm rot="913800">
            <a:off x="6431040" y="3860640"/>
            <a:ext cx="29462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5-10-05T20:06:40Z</cp:lastPrinted>
  <dcterms:modified xsi:type="dcterms:W3CDTF">2015-10-05T20:27:52Z</dcterms:modified>
  <cp:revision>28</cp:revision>
  <dc:subject/>
  <dc:title>Me llamo _______ Clase 6 nh/il La fecha es 10 de febrero del 2011</dc:title>
</cp:coreProperties>
</file>